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DAA-4A0A-4DD3-B952-F292864A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2E9D-5E20-46FB-A04E-EBFE0A19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53B-4546-4094-B3DA-239F86CF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798-403B-41A3-ADE2-11684BCE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B170-FAB4-4A82-862E-5743E45A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1A7-EEE9-4EFC-82DD-24C238C2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B751-B879-4054-9A61-4B3620EC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E45-16CF-4954-BC09-EF1CAC3B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73C-F566-4989-BE6A-6D28CB7E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6EE-56E0-496A-8570-2D82011E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FF36-CE58-4801-B079-9CC1CDB9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B94-AF64-4F3E-A9CE-B22A00A8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089F-66DD-4427-92FC-6272E585B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ta Chi-B Line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1278000"/>
          <a:ext cx="8707320" cy="51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78000"/>
                    <a:ext cx="870732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193760" y="6259680"/>
            <a:ext cx="327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Adam Hergott as adopted Big Br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00:59:00Z</dcterms:created>
  <dc:creator>Adam Mack</dc:creator>
  <dc:description/>
  <dc:language>en-US</dc:language>
  <cp:lastModifiedBy>Mack Daddy</cp:lastModifiedBy>
  <dcterms:modified xsi:type="dcterms:W3CDTF">2001-10-17T07:00:51Z</dcterms:modified>
  <cp:revision>12</cp:revision>
  <dc:subject/>
  <dc:title>PowerPoint Presentation</dc:title>
</cp:coreProperties>
</file>